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0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F635-6B54-44F3-B41F-677A0494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7CDD-B038-4940-91DB-B4877D78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E99A-C157-485A-ABDC-DDA92E54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1BF1-F449-4776-AA02-61539579C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B082-5B07-4C59-BFDD-990C35863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D16F-26DB-40D7-A55E-8DDA4D61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8B06-5019-4017-8EDE-4C27E742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74F4-CA3C-4C99-82A5-88C13491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E617-51D7-4570-B29C-2A2C581E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ED88-F385-4905-955B-9AFDC7D5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043D-9467-4B10-AA38-A5C8CC49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38CF-ED39-4982-9229-6D63FC1F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1AEB-D675-41F7-9C9A-8B6DB39D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2762-F38A-4A6A-B431-F4B94EF1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B1E9-8EAF-4769-A985-38CF4E82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C942-B991-4BEC-BDF8-3B3F4C1C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C9B1-D17F-4111-BDFB-66CBE3E6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FD5A-A9A2-4DB9-89F5-22C5B1F6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CD9E-9A67-4C26-B40C-C5683A89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B9D3-E719-41DA-8A4F-DD0E89CC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20BB-6A56-4477-95A1-6CDBB9B1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CAD7-EDD5-4A90-A6C9-F312F1CE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4869-7729-4285-B4E8-9C74BBE9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D4EC-6FE6-40FC-9B8C-6A105DC3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Courier New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5BA8-5215-4CC9-8E25-4E038F3A95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Courier New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911C-0A51-4074-B2F1-C125685645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demonstrations.wolfram.com/SimulationOfASimpleGasPressureModel/" TargetMode="External"/><Relationship Id="rId2" Type="http://schemas.openxmlformats.org/officeDocument/2006/relationships/hyperlink" Target="http://www.google.com/url?sa=i&amp;rct=j&amp;q=balloon&amp;source=images&amp;cd=&amp;cad=rja&amp;docid=ZyUEQIGT0k0xuM&amp;tbnid=IR0BPUIQyuWp1M:&amp;ved=0CAUQjRw&amp;url=http%3A%2F%2Frestaurantreservationwallpaper.blogspot.com%2F2012%2F10%2Falloons.html&amp;ei=l-tSUbbDOs-60AH_uIDwCg&amp;psig=AFQjCNGEMYWMoz9cOXJfuaTEMUlDG-U0Qw&amp;ust=1364475093510345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www.google.com/url?sa=i&amp;rct=j&amp;q=volume+and+pressure&amp;source=images&amp;cd=&amp;cad=rja&amp;docid=eUYzt5uMS5mb5M&amp;tbnid=uu5SP95YftBJWM:&amp;ved=0CAUQjRw&amp;url=http%3A%2F%2Fjiejundai-ttec4842-automotiveengines.blogspot.com%2F2011_04_01_archive.html&amp;ei=rOxSUaDwKYOB0AHwm4DwBw&amp;psig=AFQjCNGVAITaMd9zmhJ3iK_i3nEoHZg0lQ&amp;ust=1364475435438136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earch.ask.com/picdetails?o=2159&amp;gct=hp&amp;q=railroad+tank+car&amp;surl=http%3A%2F%2Fwww.search.ask.com%2Fpictures%3Fo%3D2159%26tpr%3D1%26gct%3Dhp%26q%3Drailroad%2Btank%2Bcar&amp;purl=http%3A%2F%2Fwww.alaskarails.org%2Ffp%2Ftankcars.html&amp;iurl=http%3A%2F%2Fwww.alaskarails.org%2Ffp%2Ftankcars%2FJC-tank_tn.jpg&amp;iw=200&amp;ih=133&amp;turl=http%3A%2F%2Fmedia2.picsearch.com%2Fis%3Fuz96k6ce-3Du5tgrn6eUAu3tDcvvB2iGMoqflPVZlHw&amp;tw=128&amp;th=85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en.wikipedia.org/wiki/File:Pressure_exerted_by_collisions.svg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ww.google.com/url?sa=i&amp;rct=j&amp;q=gases&amp;source=images&amp;cd=&amp;cad=rja&amp;docid=dG2_7QNxr51mbM&amp;tbnid=XPAH_hynMyd1jM:&amp;ved=0CAUQjRw&amp;url=http%3A%2F%2Fwww.tanklessisgreen.com%2Femit-less-greenhouse-gases%2F&amp;ei=8OFSUfjPEMLC0QH254GgBw&amp;bvm=bv.44342787,d.dmg&amp;psig=AFQjCNEltNb5X6SH3hhe0xp8vD1SpbS1xA&amp;ust=1364472660958654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number+of+gas+particles+and+pressure&amp;source=images&amp;cd=&amp;cad=rja&amp;docid=BDqo9SdQ455pAM&amp;tbnid=AifS1BkYgL5IVM:&amp;ved=0CAUQjRw&amp;url=http%3A%2F%2Fsites.google.com%2Fsite%2Fmchsregentschemistry%2Fgases&amp;ei=u-JSUZDzNsrO0wGFi4GYBA&amp;bvm=bv.44342787,d.dmg&amp;psig=AFQjCNFMRQqtvtjsonmZL-eT-o_kiLcq1g&amp;ust=1364472868662082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demonstrations.wolfram.com/SimulationOfASimpleGasPressureModel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demonstrations.wolfram.com/SimulationOfASimpleGasPressureModel/" TargetMode="External"/><Relationship Id="rId2" Type="http://schemas.openxmlformats.org/officeDocument/2006/relationships/hyperlink" Target="http://www.google.com/url?sa=i&amp;rct=j&amp;q=gas+pressure+and+temperature&amp;source=images&amp;cd=&amp;cad=rja&amp;docid=1L8zjLc54vqz8M&amp;tbnid=d4aIYRvyHEP5VM:&amp;ved=0CAUQjRw&amp;url=http%3A%2F%2Fwww.oswego.edu%2F~kanbur%2Fa100%2Flecture10.html&amp;ei=qelSUfaaBYfF0AH_sYGIBw&amp;bvm=bv.44342787,d.dmQ&amp;psig=AFQjCNGEbGv5xFHPIhGioCvPR-MiYGBe7Q&amp;ust=1364474585267095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i6sDTXE9TE" TargetMode="External"/><Relationship Id="rId2" Type="http://schemas.openxmlformats.org/officeDocument/2006/relationships/hyperlink" Target="http://www.youtube.com/watch?v=Zz95_VvTxZ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pressure+gauge&amp;source=images&amp;cd=&amp;cad=rja&amp;docid=aJbTSBOTk186EM&amp;tbnid=bE_zZh0a8ltxaM:&amp;ved=0CAUQjRw&amp;url=http%3A%2F%2Fcommons.wikimedia.org%2Fwiki%2FFile%3ARegulator_valve_%2526_pressure_gauge.JPG&amp;ei=3PFSUfDQBqfh0QHls4CABw&amp;psig=AFQjCNG8i_JOBGupKKh8fwMV2dfdNg7Ing&amp;ust=1364476747505192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google.com/url?sa=i&amp;rct=j&amp;q=tire+pressure+gauge&amp;source=images&amp;cd=&amp;cad=rja&amp;docid=NJRL3NUEmBMzXM&amp;tbnid=4eAVk60LOVFhKM:&amp;ved=0CAUQjRw&amp;url=http%3A%2F%2Finfo.autoworksmn.com%2Fauto-repair-blog%2Fbid%2F89245%2FAdam-s-Service-Tip-How-to-Rotate-Tires&amp;ei=IfJSUdHWC9Gz0QH4nYCgAg&amp;psig=AFQjCNG9hmd19Za3LBMdYDqqaVfq-OCG7w&amp;ust=1364476821636258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Courier New"/>
              </a:rPr>
              <a:t>Chapter 11</a:t>
            </a:r>
            <a:endParaRPr b="0" lang="en-US" sz="48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ehavior of Gases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Narrow"/>
              </a:rPr>
              <a:t>Pressure Units and Conversions</a:t>
            </a: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e SI unit for measuring pressure is the pascal (Pa).</a:t>
            </a:r>
            <a:endParaRPr b="0" lang="en-US" sz="2600" spc="-1" strike="noStrike">
              <a:solidFill>
                <a:srgbClr val="000000"/>
              </a:solidFill>
              <a:latin typeface="Courier New"/>
            </a:endParaRPr>
          </a:p>
          <a:p>
            <a:pPr lvl="1" marL="705600" indent="-2714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It is easier to use kilopascals (kPa) because the unit is bigger.</a:t>
            </a:r>
            <a:endParaRPr b="0" lang="en-US" sz="2600" spc="-1" strike="noStrike">
              <a:solidFill>
                <a:srgbClr val="000000"/>
              </a:solidFill>
              <a:latin typeface="Courier New"/>
            </a:endParaRPr>
          </a:p>
          <a:p>
            <a:pPr lvl="2" marL="1085760" indent="-217080">
              <a:lnSpc>
                <a:spcPct val="10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1 kPa = 1000 Pa</a:t>
            </a:r>
            <a:endParaRPr b="0" lang="en-US" sz="2300" spc="-1" strike="noStrike">
              <a:solidFill>
                <a:srgbClr val="000000"/>
              </a:solidFill>
              <a:latin typeface="Courier New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Equivale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 Values/Units of Atmospheric Pressur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000" spc="-1" strike="noStrike">
                <a:solidFill>
                  <a:srgbClr val="99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990000"/>
                </a:solidFill>
                <a:latin typeface="Arial Narrow"/>
              </a:rPr>
              <a:t>1.00 atm = 760 mmHg = 14.7 psi = 101.3 kPa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se the Factor Label Method to convert from one unit of pressure to another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 tire gauge reads 22.7psi, what is the same measurement in atmospheres (atm)?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30" name="TextBox 1" descr=""/>
          <p:cNvPicPr/>
          <p:nvPr/>
        </p:nvPicPr>
        <p:blipFill>
          <a:blip r:embed="rId1"/>
          <a:stretch/>
        </p:blipFill>
        <p:spPr>
          <a:xfrm>
            <a:off x="3127320" y="5846760"/>
            <a:ext cx="284652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Narrow"/>
              </a:rPr>
              <a:t>More Pressure Calculations</a:t>
            </a: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Absolute pressure is the sum of the atmospheric pressure and the measured pressure</a:t>
            </a:r>
            <a:endParaRPr b="0" lang="en-US" sz="26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What is the absolute pressure when the gauge pressure is 44 psi?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Arial Narro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What is the gauge pressure in kPa when the absolute pressure is 890 mm Hg?</a:t>
            </a:r>
            <a:endParaRPr b="0" lang="en-US" sz="21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>
              <a:lnSpc>
                <a:spcPct val="10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2590920" y="3352680"/>
            <a:ext cx="3200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Arial Narrow"/>
              </a:rPr>
              <a:t>44 psi + 14.7 psi = 59 ps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TextBox 5" descr=""/>
          <p:cNvPicPr/>
          <p:nvPr/>
        </p:nvPicPr>
        <p:blipFill>
          <a:blip r:embed="rId1"/>
          <a:stretch/>
        </p:blipFill>
        <p:spPr>
          <a:xfrm>
            <a:off x="1298520" y="4863960"/>
            <a:ext cx="723600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Narrow"/>
              </a:rPr>
              <a:t>Warm-up #3</a:t>
            </a: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ssuming the walls of a container are weak and that atmospheric pressure is 1atm, would a container with a gas at a pressure of 300kP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ex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lode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im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lode?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xplain.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Narrow"/>
              </a:rPr>
              <a:t>Volume and Pressure</a:t>
            </a: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440" y="1599840"/>
            <a:ext cx="8001000" cy="4530600"/>
          </a:xfrm>
          <a:prstGeom prst="rect">
            <a:avLst/>
          </a:prstGeom>
          <a:noFill/>
          <a:ln w="9360">
            <a:solidFill>
              <a:srgbClr val="cccc99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ow are volume and gas pressure related?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 containers with fixed volumes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1062720" indent="-21240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f the number of gas particles and temperature remain constant, then gas pressure will be inversely proportional to the volume of the container.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  <a:p>
            <a:pPr lvl="2" marL="1062720" indent="-21240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  <a:p>
            <a:pPr lvl="2" marL="1062720" indent="-21240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  <a:p>
            <a:pPr lvl="2" marL="1062720" indent="-212400">
              <a:lnSpc>
                <a:spcPct val="100000"/>
              </a:lnSpc>
              <a:spcBef>
                <a:spcPts val="624"/>
              </a:spcBef>
              <a:buClr>
                <a:srgbClr val="7f7f7f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In containers with adjustable volumes</a:t>
            </a:r>
            <a:endParaRPr b="0" lang="en-US" sz="2500" spc="-1" strike="noStrike">
              <a:solidFill>
                <a:srgbClr val="000000"/>
              </a:solidFill>
              <a:latin typeface="Courier New"/>
            </a:endParaRPr>
          </a:p>
          <a:p>
            <a:pPr lvl="3" marL="1267920" indent="-318960">
              <a:lnSpc>
                <a:spcPct val="100000"/>
              </a:lnSpc>
              <a:spcBef>
                <a:spcPts val="550"/>
              </a:spcBef>
              <a:buClr>
                <a:srgbClr val="cccc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As the pressure of the gas increase either due to an increase in the number of particles or an increase in temperature, the volume will increase. 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  <a:p>
            <a:pPr lvl="3" marL="1267920" indent="-318960">
              <a:lnSpc>
                <a:spcPct val="100000"/>
              </a:lnSpc>
              <a:spcBef>
                <a:spcPts val="550"/>
              </a:spcBef>
              <a:buClr>
                <a:srgbClr val="cccc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As the volume increases, the pressure decreases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76320" y="6172200"/>
            <a:ext cx="117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demonstrations.wolfram.com/SimulationOfASimpleGasPressureModel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http://1.bp.blogspot.com/_ZEQTZAmHudI/TQJavc_RBxI/AAAAAAAACKw/YLSOMCvuDSQ/s1600/Balloon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80440" y="5653080"/>
            <a:ext cx="1163520" cy="1165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http://4.bp.blogspot.com/-EijYbNsMpp0/TajdaQwYkYI/AAAAAAAAAEI/rNqnILzQ8C0/s1600/spacesuit_boyle_t.jpg">
            <a:hlinkClick r:id="rId4"/>
          </p:cNvPr>
          <p:cNvPicPr/>
          <p:nvPr/>
        </p:nvPicPr>
        <p:blipFill>
          <a:blip r:embed="rId5"/>
          <a:srcRect l="0" t="23793" r="0" b="19403"/>
          <a:stretch/>
        </p:blipFill>
        <p:spPr>
          <a:xfrm>
            <a:off x="3809880" y="3484440"/>
            <a:ext cx="205740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 Narrow"/>
              </a:rPr>
              <a:t>Boyle’s Law</a:t>
            </a:r>
            <a:endParaRPr b="0" lang="en-US" sz="38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oyle’s law states that the pressure and volume of a gas at constant temperature are inversely proportional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496080" indent="-4960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Boyle’s law formula:  </a:t>
            </a:r>
            <a:r>
              <a:rPr b="0" lang="en-US" sz="2600" spc="-1" strike="noStrike">
                <a:solidFill>
                  <a:srgbClr val="990000"/>
                </a:solidFill>
                <a:latin typeface="Arial Narrow"/>
              </a:rPr>
              <a:t>P</a:t>
            </a:r>
            <a:r>
              <a:rPr b="0" lang="en-US" sz="2600" spc="-1" strike="noStrike" baseline="-25000">
                <a:solidFill>
                  <a:srgbClr val="990000"/>
                </a:solidFill>
                <a:latin typeface="Arial Narrow"/>
              </a:rPr>
              <a:t>1</a:t>
            </a:r>
            <a:r>
              <a:rPr b="0" lang="en-US" sz="2600" spc="-1" strike="noStrike">
                <a:solidFill>
                  <a:srgbClr val="990000"/>
                </a:solidFill>
                <a:latin typeface="Arial Narrow"/>
              </a:rPr>
              <a:t>V</a:t>
            </a:r>
            <a:r>
              <a:rPr b="0" lang="en-US" sz="2600" spc="-1" strike="noStrike" baseline="-25000">
                <a:solidFill>
                  <a:srgbClr val="990000"/>
                </a:solidFill>
                <a:latin typeface="Arial Narrow"/>
              </a:rPr>
              <a:t>1</a:t>
            </a:r>
            <a:r>
              <a:rPr b="0" lang="en-US" sz="2600" spc="-1" strike="noStrike">
                <a:solidFill>
                  <a:srgbClr val="990000"/>
                </a:solidFill>
                <a:latin typeface="Arial Narrow"/>
              </a:rPr>
              <a:t>=P</a:t>
            </a:r>
            <a:r>
              <a:rPr b="0" lang="en-US" sz="2600" spc="-1" strike="noStrike" baseline="-25000">
                <a:solidFill>
                  <a:srgbClr val="990000"/>
                </a:solidFill>
                <a:latin typeface="Arial Narrow"/>
              </a:rPr>
              <a:t>2</a:t>
            </a:r>
            <a:r>
              <a:rPr b="0" lang="en-US" sz="2600" spc="-1" strike="noStrike">
                <a:solidFill>
                  <a:srgbClr val="990000"/>
                </a:solidFill>
                <a:latin typeface="Arial Narrow"/>
              </a:rPr>
              <a:t>V</a:t>
            </a:r>
            <a:r>
              <a:rPr b="0" lang="en-US" sz="2600" spc="-1" strike="noStrike" baseline="-25000">
                <a:solidFill>
                  <a:srgbClr val="990000"/>
                </a:solidFill>
                <a:latin typeface="Arial Narrow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Courier New"/>
            </a:endParaRPr>
          </a:p>
          <a:p>
            <a:pPr marL="496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urier New"/>
            </a:endParaRPr>
          </a:p>
          <a:p>
            <a:pPr marL="496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urier New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:  A sample of nitrogen collected in the laboratory occupies a volume of 725 mL at a pressure of 0.971 atm.  What volume will the gas occupy at a pressure of 1.40 atm, assuming the temperature stays constant?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44" name="Picture 6" descr="Boyle's%20Law%20graph"/>
          <p:cNvPicPr/>
          <p:nvPr/>
        </p:nvPicPr>
        <p:blipFill>
          <a:blip r:embed="rId1"/>
          <a:stretch/>
        </p:blipFill>
        <p:spPr>
          <a:xfrm>
            <a:off x="5400720" y="2438280"/>
            <a:ext cx="2143080" cy="1606680"/>
          </a:xfrm>
          <a:prstGeom prst="rect">
            <a:avLst/>
          </a:prstGeom>
          <a:ln w="0">
            <a:noFill/>
          </a:ln>
        </p:spPr>
      </p:pic>
      <p:pic>
        <p:nvPicPr>
          <p:cNvPr id="145" name="TextBox 1" descr=""/>
          <p:cNvPicPr/>
          <p:nvPr/>
        </p:nvPicPr>
        <p:blipFill>
          <a:blip r:embed="rId2"/>
          <a:stretch/>
        </p:blipFill>
        <p:spPr>
          <a:xfrm>
            <a:off x="1828800" y="5413320"/>
            <a:ext cx="1206360" cy="652680"/>
          </a:xfrm>
          <a:prstGeom prst="rect">
            <a:avLst/>
          </a:prstGeom>
          <a:ln w="0">
            <a:noFill/>
          </a:ln>
        </p:spPr>
      </p:pic>
      <p:pic>
        <p:nvPicPr>
          <p:cNvPr id="146" name="TextBox 5" descr=""/>
          <p:cNvPicPr/>
          <p:nvPr/>
        </p:nvPicPr>
        <p:blipFill>
          <a:blip r:embed="rId3"/>
          <a:stretch/>
        </p:blipFill>
        <p:spPr>
          <a:xfrm>
            <a:off x="3554280" y="5486400"/>
            <a:ext cx="365760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Narrow"/>
              </a:rPr>
              <a:t>Warm-up #4</a:t>
            </a: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sing Boyle’s Law, calculate the initial pressure of a gas occupying 200mL if the final volume is 15mL and the final pressure is 18.8 psi 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Narrow"/>
              </a:rPr>
              <a:t>Volume and Temperature</a:t>
            </a: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ow are volume and the temperature of a gas related?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When a gas is heated, the kinetic energy of the particles increase and particles move a greater distance away from one another creating a larger volume.</a:t>
            </a:r>
            <a:endParaRPr b="0" lang="en-US" sz="2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When a gas is cooled the kinetic energy of the particles decrease and particles mover closer together creating a smaller volume.</a:t>
            </a:r>
            <a:endParaRPr b="0" lang="en-US" sz="26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6934320" y="5334120"/>
            <a:ext cx="1447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demonstrations.wolfram.com/SimulationOfASimpleGasPressureModel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http://seniorphysics.com/physics/charles_law.jpg"/>
          <p:cNvPicPr/>
          <p:nvPr/>
        </p:nvPicPr>
        <p:blipFill>
          <a:blip r:embed="rId1"/>
          <a:stretch/>
        </p:blipFill>
        <p:spPr>
          <a:xfrm>
            <a:off x="2438280" y="4643280"/>
            <a:ext cx="350532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Narrow"/>
              </a:rPr>
              <a:t>Charles’ Law</a:t>
            </a: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8596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arles’ law states that at constant pressure, the volume of a gas is directly proportional to its Kelvin temperature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arles’ law formula: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y does the air in balloons expand when heated and contract when cooled?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55" name="Picture 5" descr="Charles's%20Law%20graph"/>
          <p:cNvPicPr/>
          <p:nvPr/>
        </p:nvPicPr>
        <p:blipFill>
          <a:blip r:embed="rId1"/>
          <a:stretch/>
        </p:blipFill>
        <p:spPr>
          <a:xfrm>
            <a:off x="6858000" y="2438280"/>
            <a:ext cx="1790640" cy="1400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Charles-Law1"/>
          <p:cNvPicPr/>
          <p:nvPr/>
        </p:nvPicPr>
        <p:blipFill>
          <a:blip r:embed="rId2"/>
          <a:srcRect l="3840" t="9980" r="3840" b="37277"/>
          <a:stretch/>
        </p:blipFill>
        <p:spPr>
          <a:xfrm>
            <a:off x="3276720" y="4419720"/>
            <a:ext cx="3581280" cy="2271600"/>
          </a:xfrm>
          <a:prstGeom prst="rect">
            <a:avLst/>
          </a:prstGeom>
          <a:ln w="38160">
            <a:solidFill>
              <a:srgbClr val="330033"/>
            </a:solidFill>
            <a:miter/>
          </a:ln>
        </p:spPr>
      </p:pic>
      <p:pic>
        <p:nvPicPr>
          <p:cNvPr id="157" name="TextBox 1" descr=""/>
          <p:cNvPicPr/>
          <p:nvPr/>
        </p:nvPicPr>
        <p:blipFill>
          <a:blip r:embed="rId3"/>
          <a:stretch/>
        </p:blipFill>
        <p:spPr>
          <a:xfrm>
            <a:off x="4114800" y="2803680"/>
            <a:ext cx="167652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Narrow"/>
              </a:rPr>
              <a:t>Charles’ Law Practice Problem</a:t>
            </a: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9144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A container of oxygen has a volume of 349 mL at a temperature of 22°C.  What volume will the gas occupy at 50°C?</a:t>
            </a:r>
            <a:endParaRPr b="0" lang="en-US" sz="2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TextBox 1"/>
          <p:cNvSpPr/>
          <p:nvPr/>
        </p:nvSpPr>
        <p:spPr>
          <a:xfrm>
            <a:off x="1808280" y="2903400"/>
            <a:ext cx="6095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emperatures in any gas law problem must be in Kelvin.  Remember to always convert Celsius to Kelvin before attempting to solve the probl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Rectangle 5" descr=""/>
          <p:cNvPicPr/>
          <p:nvPr/>
        </p:nvPicPr>
        <p:blipFill>
          <a:blip r:embed="rId1"/>
          <a:stretch/>
        </p:blipFill>
        <p:spPr>
          <a:xfrm>
            <a:off x="3809880" y="4035600"/>
            <a:ext cx="1200240" cy="652320"/>
          </a:xfrm>
          <a:prstGeom prst="rect">
            <a:avLst/>
          </a:prstGeom>
          <a:ln w="0">
            <a:noFill/>
          </a:ln>
        </p:spPr>
      </p:pic>
      <p:pic>
        <p:nvPicPr>
          <p:cNvPr id="162" name="Rectangle 8" descr=""/>
          <p:cNvPicPr/>
          <p:nvPr/>
        </p:nvPicPr>
        <p:blipFill>
          <a:blip r:embed="rId2"/>
          <a:stretch/>
        </p:blipFill>
        <p:spPr>
          <a:xfrm>
            <a:off x="5784840" y="4095720"/>
            <a:ext cx="2414520" cy="635040"/>
          </a:xfrm>
          <a:prstGeom prst="rect">
            <a:avLst/>
          </a:prstGeom>
          <a:ln w="0">
            <a:noFill/>
          </a:ln>
        </p:spPr>
      </p:pic>
      <p:pic>
        <p:nvPicPr>
          <p:cNvPr id="163" name="TextBox 9" descr=""/>
          <p:cNvPicPr/>
          <p:nvPr/>
        </p:nvPicPr>
        <p:blipFill>
          <a:blip r:embed="rId3"/>
          <a:stretch/>
        </p:blipFill>
        <p:spPr>
          <a:xfrm>
            <a:off x="1676520" y="3895560"/>
            <a:ext cx="1676160" cy="1036800"/>
          </a:xfrm>
          <a:prstGeom prst="rect">
            <a:avLst/>
          </a:prstGeom>
          <a:ln w="0">
            <a:noFill/>
          </a:ln>
        </p:spPr>
      </p:pic>
      <p:sp>
        <p:nvSpPr>
          <p:cNvPr id="164" name="TextBox 6"/>
          <p:cNvSpPr/>
          <p:nvPr/>
        </p:nvSpPr>
        <p:spPr>
          <a:xfrm>
            <a:off x="3809880" y="5181480"/>
            <a:ext cx="15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382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Narrow"/>
              </a:rPr>
              <a:t>Warm-up #5</a:t>
            </a: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hat would have been the initial temperature of a system that had an initial volume of 550mL, a final volume of 250mL and a final temperature of 297K?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Narrow"/>
              </a:rPr>
              <a:t>Warm-up #1</a:t>
            </a: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14400" y="1599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ow much force do you think it would take to crush this railroad tank car?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01" name="Picture 2" descr="http://media2.picsearch.com/is?uz96k6ce-3Du5tgrn6eUAu3tDcvvB2iGMoqflPVZlH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2895480"/>
            <a:ext cx="3948120" cy="25909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3624120" y="595008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y tuned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Narrow"/>
              </a:rPr>
              <a:t>Combined Gas Law</a:t>
            </a: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1440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combination of Boyle’s law and Charles’ law is called the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bined gas law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set of conditions 0°C and 1 atm are used so often that they are called standard temperature and pressure or STP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bined gas law formula: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Example:  A sample of hydrogen gas has a volume of 65.0 mL at a pressure of 0.992 atm and a temperature of 16°C.  What volume will the hydrogen occupy at 0.984 atm and 25°C?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69" name="TextBox 3" descr=""/>
          <p:cNvPicPr/>
          <p:nvPr/>
        </p:nvPicPr>
        <p:blipFill>
          <a:blip r:embed="rId1"/>
          <a:stretch/>
        </p:blipFill>
        <p:spPr>
          <a:xfrm>
            <a:off x="4657680" y="3432240"/>
            <a:ext cx="2206800" cy="1066680"/>
          </a:xfrm>
          <a:prstGeom prst="rect">
            <a:avLst/>
          </a:prstGeom>
          <a:ln w="0">
            <a:noFill/>
          </a:ln>
        </p:spPr>
      </p:pic>
      <p:pic>
        <p:nvPicPr>
          <p:cNvPr id="170" name="TextBox 4" descr=""/>
          <p:cNvPicPr/>
          <p:nvPr/>
        </p:nvPicPr>
        <p:blipFill>
          <a:blip r:embed="rId2"/>
          <a:stretch/>
        </p:blipFill>
        <p:spPr>
          <a:xfrm>
            <a:off x="304920" y="5675400"/>
            <a:ext cx="2206440" cy="1066680"/>
          </a:xfrm>
          <a:prstGeom prst="rect">
            <a:avLst/>
          </a:prstGeom>
          <a:ln w="0">
            <a:noFill/>
          </a:ln>
        </p:spPr>
      </p:pic>
      <p:pic>
        <p:nvPicPr>
          <p:cNvPr id="171" name="TextBox 5" descr=""/>
          <p:cNvPicPr/>
          <p:nvPr/>
        </p:nvPicPr>
        <p:blipFill>
          <a:blip r:embed="rId3"/>
          <a:stretch/>
        </p:blipFill>
        <p:spPr>
          <a:xfrm>
            <a:off x="2365200" y="5675400"/>
            <a:ext cx="2200320" cy="1030320"/>
          </a:xfrm>
          <a:prstGeom prst="rect">
            <a:avLst/>
          </a:prstGeom>
          <a:ln w="0">
            <a:noFill/>
          </a:ln>
        </p:spPr>
      </p:pic>
      <p:pic>
        <p:nvPicPr>
          <p:cNvPr id="172" name="Rectangle 1" descr=""/>
          <p:cNvPicPr/>
          <p:nvPr/>
        </p:nvPicPr>
        <p:blipFill>
          <a:blip r:embed="rId4"/>
          <a:stretch/>
        </p:blipFill>
        <p:spPr>
          <a:xfrm>
            <a:off x="4565520" y="5711760"/>
            <a:ext cx="368784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Narrow"/>
              </a:rPr>
              <a:t>The Law of Combining Gas Volumes</a:t>
            </a: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33160" y="2209680"/>
            <a:ext cx="38098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observation that at the same temperature and pressure, volumes of gases combine or decompose in ratios of small whole numbers is called the law of combining gas volumes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4343400" y="2286000"/>
            <a:ext cx="4578480" cy="25146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"/>
          <p:cNvSpPr/>
          <p:nvPr/>
        </p:nvSpPr>
        <p:spPr>
          <a:xfrm>
            <a:off x="685800" y="54864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Avogadro’s principle states that equal volumes of gases at the same temperature and pressure contain the same number of partic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Narrow"/>
              </a:rPr>
              <a:t>Behavior of Gases</a:t>
            </a: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he properties of gases that are most easily observed are the relationships among pressure, volume, temperature, and mass.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It is now possible to predict the physical behavior of gases by the application of certain laws.</a:t>
            </a:r>
            <a:endParaRPr b="0" lang="en-US" sz="21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05" name="Picture 5" descr="air balloon"/>
          <p:cNvPicPr/>
          <p:nvPr/>
        </p:nvPicPr>
        <p:blipFill>
          <a:blip r:embed="rId1"/>
          <a:stretch/>
        </p:blipFill>
        <p:spPr>
          <a:xfrm>
            <a:off x="4876920" y="1676520"/>
            <a:ext cx="3809880" cy="2552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A figure showing pressure exerted by particle collisions inside a closed container. The collisions that exert the pressure are highlighted in red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10080" y="4421160"/>
            <a:ext cx="2590920" cy="2300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http://www.tanklessisgreen.com/u/image/img13.jpg">
            <a:hlinkClick r:id="rId4"/>
          </p:cNvPr>
          <p:cNvPicPr/>
          <p:nvPr/>
        </p:nvPicPr>
        <p:blipFill>
          <a:blip r:embed="rId5"/>
          <a:srcRect l="0" t="15296" r="0" b="7403"/>
          <a:stretch/>
        </p:blipFill>
        <p:spPr>
          <a:xfrm>
            <a:off x="1282680" y="4421160"/>
            <a:ext cx="281952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Narrow"/>
              </a:rPr>
              <a:t>Particles and Pressure</a:t>
            </a: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486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How are number of particles and gas pressure related?</a:t>
            </a:r>
            <a:endParaRPr b="0" lang="en-US" sz="2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pressure of a gas is the force per unit area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pressure of a gas is directly proportional to the number of contained particles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more often gas particles collide with the walls of their container, the greater the pressure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ore gas particles mean a greater number of collision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10" name="Picture 5" descr="http://www.atomsinmotion.com/resources/article/pressureVsNumAtoms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1676520"/>
            <a:ext cx="2700360" cy="41148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"/>
          <p:cNvSpPr/>
          <p:nvPr/>
        </p:nvSpPr>
        <p:spPr>
          <a:xfrm>
            <a:off x="995400" y="5410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http://demonstrations.wolfram.com/SimulationOfASimpleGasPressureModel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Narrow"/>
              </a:rPr>
              <a:t>Temperature and Pressure</a:t>
            </a: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653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How are temperature and gas pressure related?</a:t>
            </a:r>
            <a:endParaRPr b="0" lang="en-US" sz="26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At higher temperatures, the particles in a gas have greater kinetic energy.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he particles move faster and collide with the walls of the container more often and with greater force, so the pressure increases.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the volume of the container and the number of particles of gas are not changed, the pressure of a gas increases in direct proportion to the Kelvin temperatur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6629400" y="5238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demonstrations.wolfram.com/SimulationOfASimpleGasPressureModel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http://www.oswego.edu/~kanbur/a100/images/pressure.jpg">
            <a:hlinkClick r:id="rId2"/>
          </p:cNvPr>
          <p:cNvPicPr/>
          <p:nvPr/>
        </p:nvPicPr>
        <p:blipFill>
          <a:blip r:embed="rId3"/>
          <a:srcRect l="0" t="2181" r="0" b="24942"/>
          <a:stretch/>
        </p:blipFill>
        <p:spPr>
          <a:xfrm>
            <a:off x="2286000" y="4916520"/>
            <a:ext cx="41911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Narrow"/>
              </a:rPr>
              <a:t>Check This Out!</a:t>
            </a: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 Narrow"/>
                <a:hlinkClick r:id="rId1"/>
              </a:rPr>
              <a:t>http://www.youtube.com/watch?v=Bi6sDTXE9TE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 Narrow"/>
                <a:hlinkClick r:id="rId2"/>
              </a:rPr>
              <a:t>http://www.youtube.com/watch?v=Zz95_VvTxZM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Narrow"/>
              </a:rPr>
              <a:t>Warm-up #2</a:t>
            </a: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Yesterday we saw what happens when the pressure on the outside of a system is greater than the pressure on the inside of a system.  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hat happens when the pressure inside is greater than the pressure outside?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Narrow"/>
              </a:rPr>
              <a:t>Devices to Measure Pressure 1</a:t>
            </a: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4876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e barometer is an instrument that measures the pressure exerted by the atmosphere.</a:t>
            </a:r>
            <a:endParaRPr b="0" lang="en-US" sz="2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he height of the mercury column measures the pressure exerted by the atmosphere.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he standard atmosphere (atm) is the unit used to measure pressure; the pressure that supports a 760-mm column of mercury.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1.00 atm = 760 mmHg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22" name="Picture 5" descr="merc_barometer"/>
          <p:cNvPicPr/>
          <p:nvPr/>
        </p:nvPicPr>
        <p:blipFill>
          <a:blip r:embed="rId1"/>
          <a:stretch/>
        </p:blipFill>
        <p:spPr>
          <a:xfrm>
            <a:off x="6203880" y="2057400"/>
            <a:ext cx="2940120" cy="290988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"/>
          <p:cNvSpPr/>
          <p:nvPr/>
        </p:nvSpPr>
        <p:spPr>
          <a:xfrm>
            <a:off x="5899320" y="2666880"/>
            <a:ext cx="1447560" cy="337320"/>
          </a:xfrm>
          <a:prstGeom prst="rect">
            <a:avLst/>
          </a:prstGeom>
          <a:solidFill>
            <a:srgbClr val="d3d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d0000"/>
                </a:solidFill>
                <a:latin typeface="Arial"/>
              </a:rPr>
              <a:t>760 mmH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Narrow"/>
              </a:rPr>
              <a:t>Devices to Measure Pressure 2</a:t>
            </a: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barometer can only measure atmospheric pressure and absolute pressure (pressure of all gases in the atmosphere).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o measure the pressure inside a bicycle tire or in an oxygen tank a pressure gauge is needed.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is measures pressure above atmospheric pressure.</a:t>
            </a:r>
            <a:endParaRPr b="0" lang="en-US" sz="2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26" name="Picture 5" descr="http://upload.wikimedia.org/wikipedia/commons/4/4a/Regulator_valve_%26_pressure_gaug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4495680"/>
            <a:ext cx="2438280" cy="1841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http://info.autoworksmn.com/Portals/94047/images/tire%20pressure%20gaug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49320" y="4495680"/>
            <a:ext cx="276552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2:04:14Z</dcterms:created>
  <dc:creator>udsd</dc:creator>
  <dc:description/>
  <dc:language>en-US</dc:language>
  <cp:lastModifiedBy>Dawn</cp:lastModifiedBy>
  <dcterms:modified xsi:type="dcterms:W3CDTF">2013-03-29T15:14:20Z</dcterms:modified>
  <cp:revision>54</cp:revision>
  <dc:subject/>
  <dc:title>Chapter 11</dc:title>
</cp:coreProperties>
</file>